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7631EC-1A0B-41C7-ABD2-AB6613B19F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34334A0C-F0C0-4C6F-B6E7-BE3D9E1E1D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C0FA4893-1E20-4D22-86FB-6F51B2143C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E1AE42C1-C26B-478C-A1E4-1CF1718BFF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F6FAE9BF-9CC5-4785-86E5-E2E9B2A6F0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29DE57F9-4BB4-4351-93B3-6D1F49861F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10FEB660-19F0-4D4F-A367-CACD09E90A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5CE99140-CBDD-4E48-B1F2-8B69A42879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801985B6-CB9D-4604-B865-B0BCB969CE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4A523B05-BE3C-42CE-95BE-39CC5F2BDA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A1364055-C2A0-40AD-98F6-28B816E08E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E5ED96FA-690C-4339-A89E-061BDD76CB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0ABD7-361E-4BA9-8077-C263BF95311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76360" y="2276640"/>
            <a:ext cx="66960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十二章 直肠肛管疾病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疗法</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增加膳食纤维的摄入，保持排便通畅</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温水坐浴，可改善局部血液循环</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肛管内注入消炎止痛作用的油膏或栓剂，防止感染，减轻疼痛</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血栓性外痔可先局部热敷，外敷消炎止痛类药物</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内痔脱出，需要立即手法复位</a:t>
            </a:r>
            <a:endParaRPr b="0" lang="en-US" sz="24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疗法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单纯性内痔</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胶圈套扎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疗法</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病程长，经常发作，出血量大，痔核脱出嵌顿的患者</a:t>
            </a: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1  B</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该患者明确诊断为内痔，行痔结扎手术。</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问题：①该患者术后应如何护理？</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②</a:t>
            </a:r>
            <a:r>
              <a:rPr b="0" lang="zh-CN" sz="3600" spc="-1" strike="noStrike">
                <a:solidFill>
                  <a:srgbClr val="046ca6"/>
                </a:solidFill>
                <a:latin typeface="华文新魏"/>
              </a:rPr>
              <a:t>注意事项有哪些？</a:t>
            </a:r>
            <a:endParaRPr b="0" lang="en-US" sz="36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黏膜受损感染、血栓形成和手术创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术后尿潴留、创面出血、伤口感染、肛门狭窄</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与活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排便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坚持锻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温水坐浴</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便血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痔块回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准备</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与活动</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排便</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护理</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尿潴留</a:t>
            </a:r>
            <a:endParaRPr b="0" lang="en-US" sz="24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创面出血</a:t>
            </a:r>
            <a:endParaRPr b="0" lang="en-US" sz="24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切口感染</a:t>
            </a:r>
            <a:endParaRPr b="0" lang="en-US" sz="24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肛门狭窄</a:t>
            </a:r>
            <a:endParaRPr b="0" lang="en-US" sz="24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46" name=""/>
          <p:cNvSpPr txBox="1"/>
          <p:nvPr/>
        </p:nvSpPr>
        <p:spPr>
          <a:xfrm>
            <a:off x="304920" y="11966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注意饮食调节，多吃蔬菜、水果，忌辛辣食物，少饮酒</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养成定时排便的习惯，有便意及时排便。排便时避免长时间憋气用力</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保持肛周清洁，出院后若创面未完全愈合，每次排便后仍需温水坐浴，以促进伤口愈合</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及时治疗能使腹压增高的慢性疾病，如前列腺肥大、慢性咳嗽等</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若出现排便困难，应及时去医院就诊，有肛门狭窄者早行肛门扩张</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节</a:t>
            </a:r>
            <a:r>
              <a:rPr b="0" lang="en-US" sz="5400" spc="-1" strike="noStrike">
                <a:solidFill>
                  <a:srgbClr val="ffffff"/>
                </a:solidFill>
                <a:latin typeface="华文新魏"/>
              </a:rPr>
              <a:t>  </a:t>
            </a:r>
            <a:r>
              <a:rPr b="0" lang="zh-CN" sz="5400" spc="-1" strike="noStrike">
                <a:solidFill>
                  <a:srgbClr val="ffffff"/>
                </a:solidFill>
                <a:latin typeface="华文新魏"/>
              </a:rPr>
              <a:t>直肠肛管周围脓肿</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直肠肛管周围脓肿（</a:t>
            </a:r>
            <a:r>
              <a:rPr b="0" lang="en-US" sz="3600" spc="-1" strike="noStrike">
                <a:solidFill>
                  <a:srgbClr val="046ca6"/>
                </a:solidFill>
                <a:latin typeface="华文新魏"/>
              </a:rPr>
              <a:t>anorectal abscess</a:t>
            </a:r>
            <a:r>
              <a:rPr b="0" lang="zh-CN" sz="3600" spc="-1" strike="noStrike">
                <a:solidFill>
                  <a:srgbClr val="046ca6"/>
                </a:solidFill>
                <a:latin typeface="华文新魏"/>
              </a:rPr>
              <a:t>）是指直肠肛管组织内或其周围间隙内的脓肿，多数在穿破或手术切开引流后形成肛瘘。多与肛腺感染有关，也可继发于外伤、肛裂或痔疮药物注射治疗等</a:t>
            </a:r>
            <a:endParaRPr b="0" lang="en-US" sz="36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2   A</a:t>
            </a:r>
            <a:endParaRPr b="0" lang="en-US" sz="3600" spc="-1" strike="noStrike">
              <a:solidFill>
                <a:srgbClr val="ffffff"/>
              </a:solidFill>
              <a:latin typeface="华文新魏"/>
            </a:endParaRPr>
          </a:p>
        </p:txBody>
      </p:sp>
      <p:sp>
        <p:nvSpPr>
          <p:cNvPr id="153" name=""/>
          <p:cNvSpPr txBox="1"/>
          <p:nvPr/>
        </p:nvSpPr>
        <p:spPr>
          <a:xfrm>
            <a:off x="250920" y="1371240"/>
            <a:ext cx="87328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31</a:t>
            </a:r>
            <a:r>
              <a:rPr b="0" lang="zh-CN" sz="2800" spc="-1" strike="noStrike">
                <a:solidFill>
                  <a:srgbClr val="046ca6"/>
                </a:solidFill>
                <a:latin typeface="华文新魏"/>
              </a:rPr>
              <a:t>岁，发现肛周包块半年，</a:t>
            </a:r>
            <a:r>
              <a:rPr b="0" lang="en-US" sz="2800" spc="-1" strike="noStrike">
                <a:solidFill>
                  <a:srgbClr val="046ca6"/>
                </a:solidFill>
                <a:latin typeface="华文新魏"/>
              </a:rPr>
              <a:t>1</a:t>
            </a:r>
            <a:r>
              <a:rPr b="0" lang="zh-CN" sz="2800" spc="-1" strike="noStrike">
                <a:solidFill>
                  <a:srgbClr val="046ca6"/>
                </a:solidFill>
                <a:latin typeface="华文新魏"/>
              </a:rPr>
              <a:t>个月前感到肿块有疼痛，排便时加重</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7</a:t>
            </a:r>
            <a:r>
              <a:rPr b="0" lang="zh-CN" sz="2800" spc="-1" strike="noStrike">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P 8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R 18</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BP 120/80mmHg</a:t>
            </a:r>
            <a:r>
              <a:rPr b="0" lang="zh-CN" sz="2800" spc="-1" strike="noStrike">
                <a:solidFill>
                  <a:srgbClr val="046ca6"/>
                </a:solidFill>
                <a:latin typeface="华文新魏"/>
              </a:rPr>
              <a:t>。肛门无畸形，在膝胸位肛周</a:t>
            </a:r>
            <a:r>
              <a:rPr b="0" lang="en-US" sz="2800" spc="-1" strike="noStrike">
                <a:solidFill>
                  <a:srgbClr val="046ca6"/>
                </a:solidFill>
                <a:latin typeface="华文新魏"/>
              </a:rPr>
              <a:t>1</a:t>
            </a:r>
            <a:r>
              <a:rPr b="0" lang="zh-CN" sz="2800" spc="-1" strike="noStrike">
                <a:solidFill>
                  <a:srgbClr val="046ca6"/>
                </a:solidFill>
                <a:latin typeface="华文新魏"/>
              </a:rPr>
              <a:t>点处距肛缘</a:t>
            </a:r>
            <a:r>
              <a:rPr b="0" lang="en-US" sz="2800" spc="-1" strike="noStrike">
                <a:solidFill>
                  <a:srgbClr val="046ca6"/>
                </a:solidFill>
                <a:latin typeface="华文新魏"/>
              </a:rPr>
              <a:t>2cm</a:t>
            </a:r>
            <a:r>
              <a:rPr b="0" lang="zh-CN" sz="2800" spc="-1" strike="noStrike">
                <a:solidFill>
                  <a:srgbClr val="046ca6"/>
                </a:solidFill>
                <a:latin typeface="华文新魏"/>
              </a:rPr>
              <a:t>可见一包块，约</a:t>
            </a:r>
            <a:r>
              <a:rPr b="0" lang="en-US" sz="2800" spc="-1" strike="noStrike">
                <a:solidFill>
                  <a:srgbClr val="046ca6"/>
                </a:solidFill>
                <a:latin typeface="华文新魏"/>
              </a:rPr>
              <a:t>2cm</a:t>
            </a:r>
            <a:r>
              <a:rPr b="0" lang="zh-CN" sz="2800" spc="-1" strike="noStrike">
                <a:solidFill>
                  <a:srgbClr val="046ca6"/>
                </a:solidFill>
                <a:latin typeface="华文新魏"/>
              </a:rPr>
              <a:t>×</a:t>
            </a:r>
            <a:r>
              <a:rPr b="0" lang="en-US" sz="2800" spc="-1" strike="noStrike">
                <a:solidFill>
                  <a:srgbClr val="046ca6"/>
                </a:solidFill>
                <a:latin typeface="华文新魏"/>
              </a:rPr>
              <a:t>3cm</a:t>
            </a:r>
            <a:r>
              <a:rPr b="0" lang="zh-CN" sz="2800" spc="-1" strike="noStrike">
                <a:solidFill>
                  <a:srgbClr val="046ca6"/>
                </a:solidFill>
                <a:latin typeface="华文新魏"/>
              </a:rPr>
              <a:t>大小，无破溃红肿</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直肠指诊</a:t>
            </a:r>
            <a:r>
              <a:rPr b="0" lang="en-US" sz="2800" spc="-1" strike="noStrike">
                <a:solidFill>
                  <a:srgbClr val="046ca6"/>
                </a:solidFill>
                <a:latin typeface="华文新魏"/>
              </a:rPr>
              <a:t>:</a:t>
            </a:r>
            <a:r>
              <a:rPr b="0" lang="zh-CN" sz="2800" spc="-1" strike="noStrike">
                <a:solidFill>
                  <a:srgbClr val="046ca6"/>
                </a:solidFill>
                <a:latin typeface="华文新魏"/>
              </a:rPr>
              <a:t>肛周</a:t>
            </a:r>
            <a:r>
              <a:rPr b="0" lang="en-US" sz="2800" spc="-1" strike="noStrike">
                <a:solidFill>
                  <a:srgbClr val="046ca6"/>
                </a:solidFill>
                <a:latin typeface="华文新魏"/>
              </a:rPr>
              <a:t>1</a:t>
            </a:r>
            <a:r>
              <a:rPr b="0" lang="zh-CN" sz="2800" spc="-1" strike="noStrike">
                <a:solidFill>
                  <a:srgbClr val="046ca6"/>
                </a:solidFill>
                <a:latin typeface="华文新魏"/>
              </a:rPr>
              <a:t>点处肿块压痛（</a:t>
            </a:r>
            <a:r>
              <a:rPr b="0" lang="en-US" sz="2800" spc="-1" strike="noStrike">
                <a:solidFill>
                  <a:srgbClr val="046ca6"/>
                </a:solidFill>
                <a:latin typeface="华文新魏"/>
              </a:rPr>
              <a:t>+</a:t>
            </a:r>
            <a:r>
              <a:rPr b="0" lang="zh-CN" sz="2800" spc="-1" strike="noStrike">
                <a:solidFill>
                  <a:srgbClr val="046ca6"/>
                </a:solidFill>
                <a:latin typeface="华文新魏"/>
              </a:rPr>
              <a:t>）</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肛门镜检查：肠腔内未见新生物</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B</a:t>
            </a:r>
            <a:r>
              <a:rPr b="0" lang="zh-CN" sz="2800" spc="-1" strike="noStrike">
                <a:solidFill>
                  <a:srgbClr val="046ca6"/>
                </a:solidFill>
                <a:latin typeface="华文新魏"/>
              </a:rPr>
              <a:t>超：肛周脓肿</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        </a:t>
            </a:r>
            <a:r>
              <a:rPr b="1" lang="zh-CN" sz="2800" spc="-1" strike="noStrike">
                <a:solidFill>
                  <a:srgbClr val="046ca6"/>
                </a:solidFill>
                <a:latin typeface="华文新魏"/>
              </a:rPr>
              <a:t>问 题：如何评估该患者？</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26792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陈述痔、直肠肛管周围脓肿、肛瘘、肛裂的相关病因、辅助检查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述痔、直肠肛管周围脓肿、肛瘘、肛裂的临床表现和治疗原则</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痔、直肠肛管周围脓肿、肛瘘 、肛裂患者不同手术方式的特点及术后并发症</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直肠肛管疾病患者并为其制订护理计划</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门周围脓肿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以肛门周围皮下脓肿最常见。典型的临床表现为疼痛、肿胀、局部压痛，脓肿形成后有明显的波动感，穿刺可确</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坐骨肛管间隙脓肿（坐骨直肠窝脓肿）</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起病即有发热、食欲不振，甚至寒战、恶心等全身症状。早期局部胀痛，外观无红肿，炎症发展后，局部出现红肿并有搏动性疼痛</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5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盆直肠间隙脓肿（骨盆直肠窝脓肿）</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400" spc="-1" strike="noStrike">
                <a:solidFill>
                  <a:srgbClr val="046ca6"/>
                </a:solidFill>
                <a:latin typeface="华文新魏"/>
              </a:rPr>
              <a:t>较少见。此处位置较深，而且空间较大，所以局部症状不明显，但全身感染症状显著，严重者有败血症表现</a:t>
            </a:r>
            <a:endParaRPr b="0" lang="en-US" sz="24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62" name=""/>
          <p:cNvSpPr txBox="1"/>
          <p:nvPr/>
        </p:nvSpPr>
        <p:spPr>
          <a:xfrm>
            <a:off x="30492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穿刺抽脓</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确诊价值，可同时将抽出的脓液做细菌培养药敏实验</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全身感染症状的患者血常规可见白细胞计数和中性粒细胞比例增高，严重者可出现核左移和中毒颗粒</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超声、</a:t>
            </a:r>
            <a:r>
              <a:rPr b="0" lang="en-US" sz="2400" spc="-1" strike="noStrike">
                <a:solidFill>
                  <a:srgbClr val="046ca6"/>
                </a:solidFill>
                <a:latin typeface="华文新魏"/>
              </a:rPr>
              <a:t>MRI</a:t>
            </a:r>
            <a:r>
              <a:rPr b="0" lang="zh-CN" sz="2400" spc="-1" strike="noStrike">
                <a:solidFill>
                  <a:srgbClr val="046ca6"/>
                </a:solidFill>
                <a:latin typeface="华文新魏"/>
              </a:rPr>
              <a:t>检查可协助诊断</a:t>
            </a:r>
            <a:endParaRPr b="0" lang="en-US" sz="24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6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肛管周围脓肿早期采用消炎、止痛、局部热敷或温水坐浴等治疗，常可使炎症消退</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如脓肿形成，应及早切开引流，保持引流通畅。现多采用脓肿切开引流并挂线术，可避免肛瘘形成</a:t>
            </a:r>
            <a:endParaRPr b="0" lang="en-US" sz="2400" spc="-1" strike="noStrike">
              <a:solidFill>
                <a:srgbClr val="046ca6"/>
              </a:solidFill>
              <a:latin typeface="华文新魏"/>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2   B</a:t>
            </a:r>
            <a:endParaRPr b="0" lang="en-US" sz="3600" spc="-1" strike="noStrike">
              <a:solidFill>
                <a:srgbClr val="ffffff"/>
              </a:solidFill>
              <a:latin typeface="华文新魏"/>
            </a:endParaRPr>
          </a:p>
        </p:txBody>
      </p:sp>
      <p:sp>
        <p:nvSpPr>
          <p:cNvPr id="168"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该患者明确诊断为肛周脓肿，行肛周脓肿切开引流手术。</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问题：①该患者应如何护理？</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②</a:t>
            </a:r>
            <a:r>
              <a:rPr b="0" lang="zh-CN" sz="3600" spc="-1" strike="noStrike">
                <a:solidFill>
                  <a:srgbClr val="046ca6"/>
                </a:solidFill>
                <a:latin typeface="华文新魏"/>
              </a:rPr>
              <a:t>注意事项有哪些</a:t>
            </a:r>
            <a:r>
              <a:rPr b="0" lang="en-US" sz="3600" spc="-1" strike="noStrike">
                <a:solidFill>
                  <a:srgbClr val="046ca6"/>
                </a:solidFill>
                <a:latin typeface="华文新魏"/>
              </a:rPr>
              <a:t>?</a:t>
            </a:r>
            <a:endParaRPr b="0" lang="en-US" sz="3600" spc="-1" strike="noStrike">
              <a:solidFill>
                <a:srgbClr val="046ca6"/>
              </a:solidFill>
              <a:latin typeface="华文新魏"/>
            </a:endParaRPr>
          </a:p>
          <a:p>
            <a:pPr>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7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脓肿炎症的刺激和压迫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过高</a:t>
            </a:r>
            <a:r>
              <a:rPr b="0" lang="en-US" sz="2800" spc="-1" strike="noStrike">
                <a:solidFill>
                  <a:srgbClr val="046ca6"/>
                </a:solidFill>
                <a:latin typeface="华文新魏"/>
              </a:rPr>
              <a:t>  </a:t>
            </a:r>
            <a:r>
              <a:rPr b="0" lang="zh-CN" sz="2800" spc="-1" strike="noStrike">
                <a:solidFill>
                  <a:srgbClr val="046ca6"/>
                </a:solidFill>
                <a:latin typeface="华文新魏"/>
              </a:rPr>
              <a:t>与直肠肛管周围感染和全身感染有关</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7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1.</a:t>
            </a:r>
            <a:r>
              <a:rPr b="0" lang="zh-CN" sz="2400" spc="-1" strike="noStrike">
                <a:solidFill>
                  <a:srgbClr val="046ca6"/>
                </a:solidFill>
                <a:latin typeface="华文新魏"/>
              </a:rPr>
              <a:t>根据医嘱全身应用抗生素控制感染，有条件时穿刺抽取脓液，并根据药敏试验结果选择合适的抗生素治疗</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2.</a:t>
            </a:r>
            <a:r>
              <a:rPr b="0" lang="zh-CN" sz="2400" spc="-1" strike="noStrike">
                <a:solidFill>
                  <a:srgbClr val="046ca6"/>
                </a:solidFill>
                <a:latin typeface="华文新魏"/>
              </a:rPr>
              <a:t>行脓肿切口引流者，密切观察引流液颜色、量及性状并记录；予以甲硝唑或中成药液冲洗脓腔，当脓液变稀，引流量小于</a:t>
            </a:r>
            <a:r>
              <a:rPr b="0" lang="en-US" sz="2400" spc="-1" strike="noStrike">
                <a:solidFill>
                  <a:srgbClr val="046ca6"/>
                </a:solidFill>
                <a:latin typeface="华文新魏"/>
              </a:rPr>
              <a:t>50ml/d</a:t>
            </a:r>
            <a:r>
              <a:rPr b="0" lang="zh-CN" sz="2400" spc="-1" strike="noStrike">
                <a:solidFill>
                  <a:srgbClr val="046ca6"/>
                </a:solidFill>
                <a:latin typeface="华文新魏"/>
              </a:rPr>
              <a:t>时，可考虑拔管</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3.</a:t>
            </a:r>
            <a:r>
              <a:rPr b="0" lang="zh-CN" sz="2400" spc="-1" strike="noStrike">
                <a:solidFill>
                  <a:srgbClr val="046ca6"/>
                </a:solidFill>
                <a:latin typeface="华文新魏"/>
              </a:rPr>
              <a:t>告知患者忌食辛辣刺激食物，多食蔬菜、水果、蜂蜜等，鼓励排便，预防便秘</a:t>
            </a:r>
            <a:endParaRPr b="0" lang="en-US" sz="2400" spc="-1" strike="noStrike">
              <a:solidFill>
                <a:srgbClr val="046ca6"/>
              </a:solidFill>
              <a:latin typeface="华文新魏"/>
            </a:endParaRPr>
          </a:p>
        </p:txBody>
      </p:sp>
      <p:sp>
        <p:nvSpPr>
          <p:cNvPr id="1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4.</a:t>
            </a:r>
            <a:r>
              <a:rPr b="0" lang="zh-CN" sz="2400" spc="-1" strike="noStrike">
                <a:solidFill>
                  <a:srgbClr val="046ca6"/>
                </a:solidFill>
                <a:latin typeface="华文新魏"/>
              </a:rPr>
              <a:t>急性炎症期应卧床休息，协助患者采取舒适体位，避免局部受压加重疼痛；高热患者给予物理或遵医嘱药物降温</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5.</a:t>
            </a:r>
            <a:r>
              <a:rPr b="0" lang="zh-CN" sz="2400" spc="-1" strike="noStrike">
                <a:solidFill>
                  <a:srgbClr val="046ca6"/>
                </a:solidFill>
                <a:latin typeface="华文新魏"/>
              </a:rPr>
              <a:t>指导患者注意个人卫生，勤洗、勤换内裤。便后温水坐浴，清洁肛门周围皮肤</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6.</a:t>
            </a:r>
            <a:r>
              <a:rPr b="0" lang="zh-CN" sz="2400" spc="-1" strike="noStrike">
                <a:solidFill>
                  <a:srgbClr val="046ca6"/>
                </a:solidFill>
                <a:latin typeface="华文新魏"/>
              </a:rPr>
              <a:t>其他护理措施参见本章第一节痔患者的护理</a:t>
            </a:r>
            <a:endParaRPr b="0" lang="en-US" sz="2400" spc="-1" strike="noStrike">
              <a:solidFill>
                <a:srgbClr val="046ca6"/>
              </a:solidFill>
              <a:latin typeface="华文新魏"/>
            </a:endParaRPr>
          </a:p>
          <a:p>
            <a:pPr lvl="1" marL="45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a:t>
            </a:r>
            <a:r>
              <a:rPr b="0" lang="en-US" sz="5400" spc="-1" strike="noStrike">
                <a:solidFill>
                  <a:srgbClr val="ffffff"/>
                </a:solidFill>
                <a:latin typeface="华文新魏"/>
              </a:rPr>
              <a:t>  </a:t>
            </a:r>
            <a:r>
              <a:rPr b="0" lang="zh-CN" sz="5400" spc="-1" strike="noStrike">
                <a:solidFill>
                  <a:srgbClr val="ffffff"/>
                </a:solidFill>
                <a:latin typeface="华文新魏"/>
              </a:rPr>
              <a:t>肛瘘</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瘘（</a:t>
            </a:r>
            <a:r>
              <a:rPr b="0" lang="en-US" sz="3200" spc="-1" strike="noStrike">
                <a:solidFill>
                  <a:srgbClr val="046ca6"/>
                </a:solidFill>
                <a:latin typeface="华文新魏"/>
              </a:rPr>
              <a:t>anal fistula</a:t>
            </a:r>
            <a:r>
              <a:rPr b="0" lang="zh-CN" sz="3200" spc="-1" strike="noStrike">
                <a:solidFill>
                  <a:srgbClr val="046ca6"/>
                </a:solidFill>
                <a:latin typeface="华文新魏"/>
              </a:rPr>
              <a:t>）是肛管或直肠下端与肛周皮肤间的感染性瘘管</a:t>
            </a:r>
            <a:r>
              <a:rPr b="0" lang="en-US" sz="3200" spc="-1" strike="noStrike">
                <a:solidFill>
                  <a:srgbClr val="046ca6"/>
                </a:solidFill>
                <a:latin typeface="华文新魏"/>
              </a:rPr>
              <a:t>, </a:t>
            </a:r>
            <a:r>
              <a:rPr b="0" lang="zh-CN" sz="3200" spc="-1" strike="noStrike">
                <a:solidFill>
                  <a:srgbClr val="046ca6"/>
                </a:solidFill>
                <a:latin typeface="华文新魏"/>
              </a:rPr>
              <a:t>常由直肠肛管周围脓肿引起</a:t>
            </a:r>
            <a:endParaRPr b="0" lang="en-US" sz="32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华文新魏"/>
              </a:rPr>
              <a:t> </a:t>
            </a:r>
            <a:r>
              <a:rPr b="0" lang="zh-CN" sz="5400" spc="-1" strike="noStrike">
                <a:solidFill>
                  <a:srgbClr val="ffffff"/>
                </a:solidFill>
                <a:latin typeface="华文新魏"/>
              </a:rPr>
              <a:t>第一节</a:t>
            </a:r>
            <a:r>
              <a:rPr b="0" lang="en-US" sz="5400" spc="-1" strike="noStrike">
                <a:solidFill>
                  <a:srgbClr val="ffffff"/>
                </a:solidFill>
                <a:latin typeface="华文新魏"/>
              </a:rPr>
              <a:t>  </a:t>
            </a:r>
            <a:r>
              <a:rPr b="0" lang="zh-CN" sz="5400" spc="-1" strike="noStrike">
                <a:solidFill>
                  <a:srgbClr val="ffffff"/>
                </a:solidFill>
                <a:latin typeface="华文新魏"/>
              </a:rPr>
              <a:t>痔</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3  A</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女性，</a:t>
            </a:r>
            <a:r>
              <a:rPr b="0" lang="en-US" sz="2800" spc="-1" strike="noStrike">
                <a:solidFill>
                  <a:srgbClr val="046ca6"/>
                </a:solidFill>
                <a:latin typeface="华文新魏"/>
              </a:rPr>
              <a:t>43</a:t>
            </a:r>
            <a:r>
              <a:rPr b="0" lang="zh-CN" sz="2800" spc="-1" strike="noStrike">
                <a:solidFill>
                  <a:srgbClr val="046ca6"/>
                </a:solidFill>
                <a:latin typeface="华文新魏"/>
              </a:rPr>
              <a:t>岁，</a:t>
            </a:r>
            <a:r>
              <a:rPr b="0" lang="en-US" sz="2800" spc="-1" strike="noStrike">
                <a:solidFill>
                  <a:srgbClr val="046ca6"/>
                </a:solidFill>
                <a:latin typeface="华文新魏"/>
              </a:rPr>
              <a:t>3</a:t>
            </a:r>
            <a:r>
              <a:rPr b="0" lang="zh-CN" sz="2800" spc="-1" strike="noStrike">
                <a:solidFill>
                  <a:srgbClr val="046ca6"/>
                </a:solidFill>
                <a:latin typeface="华文新魏"/>
              </a:rPr>
              <a:t>周前无明显诱因出现肛周溃口、反复流脓，并伴有排便时剧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6.5</a:t>
            </a:r>
            <a:r>
              <a:rPr b="0" lang="zh-CN" sz="2800" spc="-1" strike="noStrike">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P 8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R 2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BP 120/80mmHg</a:t>
            </a:r>
            <a:r>
              <a:rPr b="0" lang="zh-CN" sz="2800" spc="-1" strike="noStrike">
                <a:solidFill>
                  <a:srgbClr val="046ca6"/>
                </a:solidFill>
                <a:latin typeface="华文新魏"/>
              </a:rPr>
              <a:t>。膝胸位肛门周围</a:t>
            </a:r>
            <a:r>
              <a:rPr b="0" lang="en-US" sz="2800" spc="-1" strike="noStrike">
                <a:solidFill>
                  <a:srgbClr val="046ca6"/>
                </a:solidFill>
                <a:latin typeface="华文新魏"/>
              </a:rPr>
              <a:t>3</a:t>
            </a:r>
            <a:r>
              <a:rPr b="0" lang="zh-CN" sz="2800" spc="-1" strike="noStrike">
                <a:solidFill>
                  <a:srgbClr val="046ca6"/>
                </a:solidFill>
                <a:latin typeface="华文新魏"/>
              </a:rPr>
              <a:t>点处皮肤上形成一突起或凹陷，周围皮肤脱皮发红，皮下可以摸到绳状硬条，由外口行向肛门，用指按压，有脓液由外口流出。</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直肠指诊</a:t>
            </a:r>
            <a:r>
              <a:rPr b="0" lang="en-US" sz="2800" spc="-1" strike="noStrike">
                <a:solidFill>
                  <a:srgbClr val="046ca6"/>
                </a:solidFill>
                <a:latin typeface="华文新魏"/>
              </a:rPr>
              <a:t>:</a:t>
            </a:r>
            <a:r>
              <a:rPr b="0" lang="zh-CN" sz="2800" spc="-1" strike="noStrike">
                <a:solidFill>
                  <a:srgbClr val="046ca6"/>
                </a:solidFill>
                <a:latin typeface="华文新魏"/>
              </a:rPr>
              <a:t>可触到中心凹陷的小硬结，有轻微压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问题：该患者护理评估有哪些内容？</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87" name=""/>
          <p:cNvSpPr txBox="1"/>
          <p:nvPr/>
        </p:nvSpPr>
        <p:spPr>
          <a:xfrm>
            <a:off x="36360" y="1196640"/>
            <a:ext cx="91440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瘘外口流出少量脓性、血性、黏液性分泌物为主要症状</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大的高位肛瘘，因瘘管位于括约肌外，不受括约肌控制，常有粪便及气体排出</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由于分泌物的刺激，使肛门部潮湿、瘙痒，有时形成湿疹</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当外口假性愈合，瘘管中有脓肿形成时，可感到明显疼痛，同时可伴有发热、寒战、乏力等全身感染症状，脓肿穿破或切开引流后，症状缓解</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检查时在肛周皮肤上可见到单个或多个外口，呈红色乳头状隆起，挤压时有脓液或脓血性分泌物排出</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直肠镜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亚甲蓝染色试验</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瘘管切开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挂线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瘘管切除术</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97" name="图片 9" descr=""/>
          <p:cNvPicPr/>
          <p:nvPr/>
        </p:nvPicPr>
        <p:blipFill>
          <a:blip r:embed="rId1"/>
          <a:stretch/>
        </p:blipFill>
        <p:spPr>
          <a:xfrm>
            <a:off x="324000" y="1601640"/>
            <a:ext cx="8424720" cy="3051360"/>
          </a:xfrm>
          <a:prstGeom prst="rect">
            <a:avLst/>
          </a:prstGeom>
          <a:ln w="0">
            <a:noFill/>
          </a:ln>
        </p:spPr>
      </p:pic>
      <p:sp>
        <p:nvSpPr>
          <p:cNvPr id="198" name="矩形 4"/>
          <p:cNvSpPr/>
          <p:nvPr/>
        </p:nvSpPr>
        <p:spPr>
          <a:xfrm>
            <a:off x="3486600" y="494172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肛瘘挂线疗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a:t>
            </a:r>
            <a:r>
              <a:rPr b="0" lang="en-US" sz="2800" spc="-1" strike="noStrike">
                <a:solidFill>
                  <a:srgbClr val="046ca6"/>
                </a:solidFill>
                <a:latin typeface="华文新魏"/>
              </a:rPr>
              <a:t>  </a:t>
            </a:r>
            <a:r>
              <a:rPr b="0" lang="zh-CN" sz="2800" spc="-1" strike="noStrike">
                <a:solidFill>
                  <a:srgbClr val="046ca6"/>
                </a:solidFill>
                <a:latin typeface="华文新魏"/>
              </a:rPr>
              <a:t>与肛周脓肿破出皮肤、皮肤瘙痒、手术治疗等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a:t>
            </a:r>
            <a:r>
              <a:rPr b="1" lang="zh-CN" sz="2800" spc="-1" strike="noStrike">
                <a:solidFill>
                  <a:srgbClr val="046ca6"/>
                </a:solidFill>
                <a:latin typeface="华文新魏"/>
              </a:rPr>
              <a:t>：</a:t>
            </a:r>
            <a:r>
              <a:rPr b="0" lang="zh-CN" sz="2800" spc="-1" strike="noStrike">
                <a:solidFill>
                  <a:srgbClr val="046ca6"/>
                </a:solidFill>
                <a:latin typeface="华文新魏"/>
              </a:rPr>
              <a:t>创面感染、排便失禁、肛门狭窄、肛门松弛</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3  B</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肛瘘，拟行挂线疗法。</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对该患者的主要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挂线疗法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温水坐浴</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收紧药线</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护理措施参见本章第一节痔围术期护理</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四节 肛裂</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裂是齿状线下肛管皮肤层裂伤后形成的小溃疡。方向与肛管纵轴平行，长</a:t>
            </a:r>
            <a:r>
              <a:rPr b="0" lang="en-US" sz="2800" spc="-1" strike="noStrike">
                <a:solidFill>
                  <a:srgbClr val="046ca6"/>
                </a:solidFill>
                <a:latin typeface="华文新魏"/>
              </a:rPr>
              <a:t>0.5</a:t>
            </a:r>
            <a:r>
              <a:rPr b="0" lang="zh-CN" sz="2800" spc="-1" strike="noStrike">
                <a:solidFill>
                  <a:srgbClr val="046ca6"/>
                </a:solidFill>
                <a:latin typeface="华文新魏"/>
              </a:rPr>
              <a:t>～</a:t>
            </a:r>
            <a:r>
              <a:rPr b="0" lang="en-US" sz="2800" spc="-1" strike="noStrike">
                <a:solidFill>
                  <a:srgbClr val="046ca6"/>
                </a:solidFill>
                <a:latin typeface="华文新魏"/>
              </a:rPr>
              <a:t>1.0cm</a:t>
            </a:r>
            <a:r>
              <a:rPr b="0" lang="zh-CN" sz="2800" spc="-1" strike="noStrike">
                <a:solidFill>
                  <a:srgbClr val="046ca6"/>
                </a:solidFill>
                <a:latin typeface="华文新魏"/>
              </a:rPr>
              <a:t>，呈梭形或椭圆形，常引起肛周剧痛，多见于中青年人</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裂的病因尚不清楚，可能与多种因素有关，长期便秘、粪便干结引起的排便时机械性创伤是大多数肛裂形成的直接原因</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肛裂患者裂口上端的肛瓣和肛乳头水肿形成肥大的肛乳头；裂口下端皮肤炎性水肿形成外痔样袋状皮垂，称“前哨痔”。肛裂、肛乳头肥大和前哨痔统称为肛裂“三联征”</a:t>
            </a:r>
            <a:endParaRPr b="0" lang="en-US" sz="2800" spc="-1" strike="noStrike">
              <a:solidFill>
                <a:srgbClr val="046ca6"/>
              </a:solidFill>
              <a:latin typeface="华文新魏"/>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直肠上、下静脉丛在靠近齿状线的部位扩张和屈曲而形成的静脉团称为痔（</a:t>
            </a:r>
            <a:r>
              <a:rPr b="0" lang="en-US" sz="3600" spc="-1" strike="noStrike">
                <a:solidFill>
                  <a:srgbClr val="046ca6"/>
                </a:solidFill>
                <a:latin typeface="华文新魏"/>
              </a:rPr>
              <a:t>hemorrhoids</a:t>
            </a:r>
            <a:r>
              <a:rPr b="0" lang="zh-CN" sz="3600" spc="-1" strike="noStrike">
                <a:solidFill>
                  <a:srgbClr val="046ca6"/>
                </a:solidFill>
                <a:latin typeface="华文新魏"/>
              </a:rPr>
              <a:t>）</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发病原因与多种因素有关，目前得到广泛认可的原因主要有</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曲张学说</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垫下移学说</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因素</a:t>
            </a:r>
            <a:endParaRPr b="0" lang="en-US" sz="3200" spc="-1" strike="noStrike">
              <a:solidFill>
                <a:srgbClr val="046ca6"/>
              </a:solidFill>
              <a:latin typeface="华文新魏"/>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4  A</a:t>
            </a:r>
            <a:endParaRPr b="0" lang="en-US" sz="3600" spc="-1" strike="noStrike">
              <a:solidFill>
                <a:srgbClr val="ffffff"/>
              </a:solidFill>
              <a:latin typeface="华文新魏"/>
            </a:endParaRPr>
          </a:p>
        </p:txBody>
      </p:sp>
      <p:sp>
        <p:nvSpPr>
          <p:cNvPr id="21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24</a:t>
            </a:r>
            <a:r>
              <a:rPr b="0" lang="zh-CN" sz="3200" spc="-1" strike="noStrike">
                <a:solidFill>
                  <a:srgbClr val="046ca6"/>
                </a:solidFill>
                <a:latin typeface="华文新魏"/>
              </a:rPr>
              <a:t>岁，</a:t>
            </a:r>
            <a:r>
              <a:rPr b="0" lang="en-US" sz="3200" spc="-1" strike="noStrike">
                <a:solidFill>
                  <a:srgbClr val="046ca6"/>
                </a:solidFill>
                <a:latin typeface="华文新魏"/>
              </a:rPr>
              <a:t>2</a:t>
            </a:r>
            <a:r>
              <a:rPr b="0" lang="zh-CN" sz="3200" spc="-1" strike="noStrike">
                <a:solidFill>
                  <a:srgbClr val="046ca6"/>
                </a:solidFill>
                <a:latin typeface="华文新魏"/>
              </a:rPr>
              <a:t>年前无明显诱因间歇性出现大便带血，鲜红色，同时伴有肛周不适。</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6.8</a:t>
            </a:r>
            <a:r>
              <a:rPr b="0" lang="zh-CN" sz="3200" spc="-1" strike="noStrike">
                <a:solidFill>
                  <a:srgbClr val="046ca6"/>
                </a:solidFill>
                <a:latin typeface="华文新魏"/>
              </a:rPr>
              <a:t>℃</a:t>
            </a:r>
            <a:r>
              <a:rPr b="0" lang="zh-CN" sz="3200" spc="-1" strike="noStrike">
                <a:solidFill>
                  <a:srgbClr val="046ca6"/>
                </a:solidFill>
                <a:latin typeface="华文新魏"/>
              </a:rPr>
              <a:t>，</a:t>
            </a:r>
            <a:r>
              <a:rPr b="0" lang="en-US" sz="3200" spc="-1" strike="noStrike">
                <a:solidFill>
                  <a:srgbClr val="046ca6"/>
                </a:solidFill>
                <a:latin typeface="华文新魏"/>
              </a:rPr>
              <a:t>P 8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2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10/80mmHg</a:t>
            </a:r>
            <a:r>
              <a:rPr b="0" lang="zh-CN" sz="3200" spc="-1" strike="noStrike">
                <a:solidFill>
                  <a:srgbClr val="046ca6"/>
                </a:solidFill>
                <a:latin typeface="华文新魏"/>
              </a:rPr>
              <a:t>。截石位肛周皮肤</a:t>
            </a:r>
            <a:r>
              <a:rPr b="0" lang="en-US" sz="3200" spc="-1" strike="noStrike">
                <a:solidFill>
                  <a:srgbClr val="046ca6"/>
                </a:solidFill>
                <a:latin typeface="华文新魏"/>
              </a:rPr>
              <a:t>6</a:t>
            </a:r>
            <a:r>
              <a:rPr b="0" lang="zh-CN" sz="3200" spc="-1" strike="noStrike">
                <a:solidFill>
                  <a:srgbClr val="046ca6"/>
                </a:solidFill>
                <a:latin typeface="华文新魏"/>
              </a:rPr>
              <a:t>点处可见一溃疡，齿状线上直肠粘膜迂曲成团，肛周皮肤粗糙皲裂。</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多剧烈，有典型的周期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血</a:t>
            </a:r>
            <a:endParaRPr b="0" lang="en-US" sz="2800" spc="-1" strike="noStrike">
              <a:solidFill>
                <a:srgbClr val="046ca6"/>
              </a:solidFill>
              <a:latin typeface="华文新魏"/>
            </a:endParaRPr>
          </a:p>
        </p:txBody>
      </p:sp>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诊断明确的肛裂患者一般不宜做直肠指诊及直肠镜检查，以免引起剧烈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情况下可作直肠指诊及内镜检查或组织病理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目的是解除括约肌痉挛，止痛，帮助排便，中断恶性循环，促使局部创面愈合，缺点是复发率高。急性或初发的肛裂者可用温水坐浴和润便的方法，慢性肛裂者可用温水坐浴、润便加扩肛的方法</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经久不愈、保守治疗无效且症状较重者可采用手术治疗，方法包括肛裂切除术、肛管内括约肌切断术</a:t>
            </a:r>
            <a:endParaRPr b="0" lang="en-US" sz="2400" spc="-1" strike="noStrike">
              <a:solidFill>
                <a:srgbClr val="046ca6"/>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4  B</a:t>
            </a:r>
            <a:endParaRPr b="0" lang="en-US" sz="3600" spc="-1" strike="noStrike">
              <a:solidFill>
                <a:srgbClr val="ffffff"/>
              </a:solidFill>
              <a:latin typeface="华文新魏"/>
            </a:endParaRPr>
          </a:p>
        </p:txBody>
      </p:sp>
      <p:sp>
        <p:nvSpPr>
          <p:cNvPr id="225"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肛裂，拟行肛裂切除术。</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围术期的主要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粪便刺激及肛管括约肌痉挛、手术创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秘</a:t>
            </a:r>
            <a:r>
              <a:rPr b="0" lang="en-US" sz="2800" spc="-1" strike="noStrike">
                <a:solidFill>
                  <a:srgbClr val="046ca6"/>
                </a:solidFill>
                <a:latin typeface="华文新魏"/>
              </a:rPr>
              <a:t>  </a:t>
            </a:r>
            <a:r>
              <a:rPr b="0" lang="zh-CN" sz="2800" spc="-1" strike="noStrike">
                <a:solidFill>
                  <a:srgbClr val="046ca6"/>
                </a:solidFill>
                <a:latin typeface="华文新魏"/>
              </a:rPr>
              <a:t>与患者惧怕疼痛不愿排便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切口出血、排便失禁等</a:t>
            </a:r>
            <a:endParaRPr b="0" lang="en-US" sz="2800" spc="-1" strike="noStrike">
              <a:solidFill>
                <a:srgbClr val="046ca6"/>
              </a:solidFill>
              <a:latin typeface="华文新魏"/>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31" name=""/>
          <p:cNvSpPr txBox="1"/>
          <p:nvPr/>
        </p:nvSpPr>
        <p:spPr>
          <a:xfrm>
            <a:off x="25092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支持</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排便通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调整饮食</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门疼痛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术后常见并发症的预防和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切口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排便失禁</a:t>
            </a:r>
            <a:endParaRPr b="0" lang="en-US" sz="2800" spc="-1" strike="noStrike">
              <a:solidFill>
                <a:srgbClr val="046ca6"/>
              </a:solidFill>
              <a:latin typeface="华文新魏"/>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自我监测排便情况，若出现排便困难、出血、疼痛等异常，及时就诊。</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其他护理措施参见本章第一节痔围术期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痔</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主要有静脉曲张学说和肛垫下移学说。</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常见症状是便血、痔核突出、剧烈疼痛和局部肿胀。</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一般治疗的关键是保持良好的饮食和排便习惯，症状明显时可采用注射治疗、手术治疗、胶圈套扎疗法和手术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帮助患者养成良好饮食、排便习惯，坚持锻炼身体，温水坐浴，病情观察，痔块脱出及时还纳。指导手术患者术后饮食、活动和排便，缓解疼痛，防止尿潴留、创面出血、切口感染、肛门狭窄等并发症。</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直肠肛管周围脓肿</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直肠肛管脓肿多与肛腺感染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以肛门周围皮下脓肿最常见，局部疼痛、肿胀等表现明显。坐骨肛管间隙脓肿者兼有局部和全身表现。骨盆直肠间隙脓肿者以全身感染症状为主。</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以抗感染为主，如脓肿形成应尽早切开引流，并保持引流通畅。</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保持引流通畅，观察引流液变化，对症处理。</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1   A</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50</a:t>
            </a:r>
            <a:r>
              <a:rPr b="0" lang="zh-CN" sz="2400" spc="-1" strike="noStrike">
                <a:solidFill>
                  <a:srgbClr val="046ca6"/>
                </a:solidFill>
                <a:latin typeface="华文新魏"/>
              </a:rPr>
              <a:t>岁，</a:t>
            </a:r>
            <a:r>
              <a:rPr b="0" lang="en-US" sz="2400" spc="-1" strike="noStrike">
                <a:solidFill>
                  <a:srgbClr val="046ca6"/>
                </a:solidFill>
                <a:latin typeface="华文新魏"/>
              </a:rPr>
              <a:t>1</a:t>
            </a:r>
            <a:r>
              <a:rPr b="0" lang="zh-CN" sz="2400" spc="-1" strike="noStrike">
                <a:solidFill>
                  <a:srgbClr val="046ca6"/>
                </a:solidFill>
                <a:latin typeface="华文新魏"/>
              </a:rPr>
              <a:t>年前出现鲜血便，常见便纸上有血迹，有时鲜血覆盖于粪便表面，并伴有肛门肿物脱出，平卧时可自行还纳。既往体健，嗜酒，否认家族中有类似疾病史。</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a:t>
            </a:r>
            <a:r>
              <a:rPr b="0" lang="en-US" sz="2400" spc="-1" strike="noStrike">
                <a:solidFill>
                  <a:srgbClr val="046ca6"/>
                </a:solidFill>
                <a:latin typeface="华文新魏"/>
              </a:rPr>
              <a:t>T 36.3</a:t>
            </a:r>
            <a:r>
              <a:rPr b="0" lang="zh-CN" sz="2400" spc="-1" strike="noStrike">
                <a:solidFill>
                  <a:srgbClr val="046ca6"/>
                </a:solidFill>
                <a:latin typeface="华文新魏"/>
              </a:rPr>
              <a:t>℃</a:t>
            </a:r>
            <a:r>
              <a:rPr b="0" lang="zh-CN" sz="2400" spc="-1" strike="noStrike">
                <a:solidFill>
                  <a:srgbClr val="046ca6"/>
                </a:solidFill>
                <a:latin typeface="华文新魏"/>
              </a:rPr>
              <a:t>，</a:t>
            </a:r>
            <a:r>
              <a:rPr b="0" lang="en-US" sz="2400" spc="-1" strike="noStrike">
                <a:solidFill>
                  <a:srgbClr val="046ca6"/>
                </a:solidFill>
                <a:latin typeface="华文新魏"/>
              </a:rPr>
              <a:t>P 72</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R 18</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BP 130/80mmHg</a:t>
            </a:r>
            <a:r>
              <a:rPr b="0" lang="zh-CN" sz="2400" spc="-1" strike="noStrike">
                <a:solidFill>
                  <a:srgbClr val="046ca6"/>
                </a:solidFill>
                <a:latin typeface="华文新魏"/>
              </a:rPr>
              <a:t>。肛门无畸形，截石位在肛缘</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1</a:t>
            </a:r>
            <a:r>
              <a:rPr b="0" lang="zh-CN" sz="2400" spc="-1" strike="noStrike">
                <a:solidFill>
                  <a:srgbClr val="046ca6"/>
                </a:solidFill>
                <a:latin typeface="华文新魏"/>
              </a:rPr>
              <a:t>点处有皮赘突起，无红肿，未见瘘口。</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直肠指诊：肛周无压痛，食指进入肛内</a:t>
            </a:r>
            <a:r>
              <a:rPr b="0" lang="en-US" sz="2400" spc="-1" strike="noStrike">
                <a:solidFill>
                  <a:srgbClr val="046ca6"/>
                </a:solidFill>
                <a:latin typeface="华文新魏"/>
              </a:rPr>
              <a:t>7cm</a:t>
            </a:r>
            <a:r>
              <a:rPr b="0" lang="zh-CN" sz="2400" spc="-1" strike="noStrike">
                <a:solidFill>
                  <a:srgbClr val="046ca6"/>
                </a:solidFill>
                <a:latin typeface="华文新魏"/>
              </a:rPr>
              <a:t>，未扪及异常包块，指套无血染。</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直肠镜检查：截石位齿线上</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1</a:t>
            </a:r>
            <a:r>
              <a:rPr b="0" lang="zh-CN" sz="2400" spc="-1" strike="noStrike">
                <a:solidFill>
                  <a:srgbClr val="046ca6"/>
                </a:solidFill>
                <a:latin typeface="华文新魏"/>
              </a:rPr>
              <a:t>点黏膜充血，隆起明显。</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问题：该患者护理评估内容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瘘</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常由直肠肛管周围脓肿引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瘘外口流出少量脓性、血性、黏液性分泌物，并反复发作。</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肛瘘无法自愈，一般采用手术切除或挂线疗法。</a:t>
            </a:r>
            <a:endParaRPr b="0" lang="en-US" sz="2400" spc="-1" strike="noStrike">
              <a:solidFill>
                <a:srgbClr val="046ca6"/>
              </a:solidFill>
              <a:latin typeface="华文新魏"/>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肛周皮肤护理、保持排便通畅、温水坐浴，挂线治疗</a:t>
            </a:r>
            <a:r>
              <a:rPr b="0" lang="zh-CN" sz="2000" spc="-1" strike="noStrike">
                <a:solidFill>
                  <a:srgbClr val="046ca6"/>
                </a:solidFill>
                <a:latin typeface="华文新魏"/>
              </a:rPr>
              <a:t>应定期门诊复查，做好便失禁和肛门狭窄并发症的观察和处理。</a:t>
            </a:r>
            <a:endParaRPr b="0" lang="en-US" sz="2000" spc="-1" strike="noStrike">
              <a:solidFill>
                <a:srgbClr val="046ca6"/>
              </a:solidFill>
              <a:latin typeface="华文新魏"/>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裂</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长期便秘、粪便干结引起的排便时机械性创伤是大多数肛裂形成的直接原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典型症状是疼痛、便秘和出血。典型体征是肛裂“三联征”，即乳头肥大、肛裂、前哨痔。</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肛裂可用温水坐浴、润便和扩肛等方法治疗，严重者可手术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重点是心理支持、通便、调整饮食、减轻肛门疼痛和防治并发症。</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内痔：好发部位为截石位</a:t>
            </a:r>
            <a:r>
              <a:rPr b="0" lang="en-US" sz="2800" spc="-1" strike="noStrike">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7</a:t>
            </a:r>
            <a:r>
              <a:rPr b="0" lang="zh-CN" sz="2800" spc="-1" strike="noStrike">
                <a:solidFill>
                  <a:srgbClr val="046ca6"/>
                </a:solidFill>
                <a:latin typeface="华文新魏"/>
              </a:rPr>
              <a:t>、</a:t>
            </a:r>
            <a:r>
              <a:rPr b="0" lang="en-US" sz="2800" spc="-1" strike="noStrike">
                <a:solidFill>
                  <a:srgbClr val="046ca6"/>
                </a:solidFill>
                <a:latin typeface="华文新魏"/>
              </a:rPr>
              <a:t>11</a:t>
            </a:r>
            <a:r>
              <a:rPr b="0" lang="zh-CN" sz="2800" spc="-1" strike="noStrike">
                <a:solidFill>
                  <a:srgbClr val="046ca6"/>
                </a:solidFill>
                <a:latin typeface="华文新魏"/>
              </a:rPr>
              <a:t>点，可分为四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血：最常见的症状，一般表现为间歇性便后无痛性鲜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痔核脱出</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门内瘙痒和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痔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平时无感觉，仅见肛门外皮垂；当排便用力过猛时，可引起痔静脉破裂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混合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具有内痔和外痔两者的临床表现</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除Ⅰ度内痔外，其他三度都可在肛门视诊下看到</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指诊虽然对诊断作用不大，但可以排除直肠其他病变</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镜检查可以确诊</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视诊、直肠指诊和直肠镜检查发现的肛门周围病变一般用时钟定位法记录，并标明体位</a:t>
            </a:r>
            <a:endParaRPr b="0" lang="en-US" sz="24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饮食习惯和烟酒嗜好，有无长期饮酒、进食大量刺激性食物导致局部充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无肛周感染、营养不良等情况促进痔的形成</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无长期站立、坐位或腹压增高等因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0:25:16Z</dcterms:modified>
  <cp:revision>114</cp:revision>
  <dc:subject/>
  <dc:title>内科护理学</dc:title>
</cp:coreProperties>
</file>